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9C2-A57D-4374-BDB0-993CDDABAA3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Rhinitis : inflammation of the nasal mucosa characterized by two or more of the following symp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con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nterior/posterior rhinorrho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ee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itch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rgy rhinitis - </a:t>
            </a: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g-E mediated inflammation  of the nasal mucosa after exposure to the aller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669A-62A5-4AB6-A7FA-1C9C118D92B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divided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ittent (IAR) .v. persistent (P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ity classifi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d .v. moderate/sev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7FB-2409-4BA8-9762-0C3FB28423D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C8A-BB4A-435C-9A15-EEA0F9ED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871-7B5C-4B88-981C-9E33E23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450-FE1F-4DFF-9ED8-DB094C3E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28B-F85F-48DE-936B-CA212D06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3CBB-7E53-49AE-82F1-DEBF84B8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17BF-75B1-4AC5-ACBF-3B59D1E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E502-1542-4F9B-A6B0-4C0804B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C642-CF56-4146-8A9F-CA122024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7A1E-6E99-45FC-B62A-6F46801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A2F2-3154-46FC-823A-3F2E3B3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DD1-9CF7-4E51-BC58-DB802E0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9B2-8757-467B-B27F-19A232BE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2CB-F853-4825-B482-A5BF8C7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BF75-9AD6-4211-A71C-6F39575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868-7A89-405C-8CB7-CDD82A2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DCA-2076-4CD4-BAA1-F3B1A7D2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D93-F3B0-43C4-AF33-6C5BE80D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97E1-729A-4DB6-90AE-A184FE8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0973-CB93-43C7-861B-2CB7019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57E2-838D-41AA-9C92-7A261E1D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10E5-3D55-4CCE-BF0A-8AAEF3CB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3811-9368-420C-A538-8AA86C3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1ED-8153-48AA-B6BC-153DAC2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7D39-F21A-444A-BC1C-670F121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7EBA-EBD2-4BF9-B4F0-7AF1A8A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D167-77DB-4998-83ED-36CF16C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AD84-20C7-4828-A9FF-B6461BC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0E45-2497-47B4-84EA-C2F7956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1D65-AF25-40BA-AAF5-576DC88B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430C-2F40-4D77-BE26-A695BD00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D94D-6CCB-4537-9E68-ECFB8DA6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1C430-4272-4564-BEEE-6FE94DD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1C86-089E-47D2-BB70-AA43935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59E-FADB-4FBB-BF1E-AC4E2427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495A-DE0E-4229-B850-3BEE1A8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7B40B-C610-432A-95D6-6AA4F82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46ED-D68D-47A5-8140-39C16010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94B9-67B5-421F-9922-6F374B6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4766-27D2-4A93-918A-B671297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9E71-53F1-41A4-AC40-639ECF3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E6E9-5213-4183-8C92-2433DF3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52F4-8104-47B9-8A19-6F4511C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FD10-CB98-4AEF-9C54-51B25A8B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D26A7-6323-479C-AD4C-F880D8B5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078-09E6-4079-99C7-7CE1F40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241E-A3DA-4C75-9499-6F2AA508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416CD-48B4-4B02-AB9F-3D958F5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0242-99C3-433C-A514-11CF055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F345-004B-4E41-AF71-7B6B262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D6AD-07F8-41E8-AAE8-336C446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B391-9A0B-4A22-880E-4D89AC2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989EF-6B9B-440A-BB22-ADBDECE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C0C2-88D4-4D0C-995A-9F815F8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D130-61AB-4ED2-87F2-8F0C0DC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CD55-0C38-4D28-9E56-AB71607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904-62C9-4866-BA45-A102B3AB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0748-75C1-450F-B475-8F236202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B4772-6D51-40A0-9F19-7B0D2F18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ECB2-1692-4CD9-8D4B-EED8FCD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C2C0-F59B-444D-B69E-FEF7F3E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1525-DFC2-4EA3-A61D-2AA79C9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D202-98C6-4B75-980C-883B5270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5975-23AE-42DD-AC92-E1D16AC1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0FA2-B198-4DD8-8A0E-98F0DA7F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A1B4-C56B-433E-8377-E0DBE7A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5F70-60C9-4FE6-9394-71AD92F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023-069B-4505-8AA9-D099980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D115-B5F7-4C4F-8A1F-3CF42740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C525-94C0-4D8A-918A-76F1FDBD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987B-4937-4A6B-9CC2-B0A8C982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F4B3-958F-4A42-9C83-B0BFBB14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585C-F63C-4C7F-A12A-43263649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3431-3CF8-4867-A903-423A4D8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E37CC-1368-4925-B091-23C99F9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3B1A-0C0B-4FE5-B1AB-DCC1DE4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B314-F037-400E-B2E0-FF968B8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FB82-9AEB-49DE-BC66-9D342A5D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D9D-4AC6-4A2D-A386-3A20C00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4228-6C3D-4640-BBD2-BC03E7F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D3E8-AB25-448F-BAB6-9CCC518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0B4AF-9439-473A-BB42-1971282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8019-A0B7-4711-A65B-9C62F1B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C0EA-1C44-4E81-BA61-5470E0A1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E0C-1C65-46F5-93D8-F381CC8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F049-41A7-4B25-A468-B3CFAA81BD0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0B1-1411-43F6-A990-203D14BED1E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9E4-0A93-4E25-A3D9-C4982F02E245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3D17-A757-498B-961D-5CB83B41C38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C7C-0882-4333-BE36-126DEE510AEC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744-3E64-4F42-92E6-59121DFA8CD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C99-D951-4E3D-A745-6EC1E1CA80B7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E85C-0234-4E31-A0AF-8A09D16B408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D95-28EA-4A58-87F4-D21D83BF0FC6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F8E-4F84-4AA6-BB1E-EF5414362EA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CC4-39D2-4C96-A3B4-E7D8ED3736C0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E682-8C53-4B0C-AF85-06D44969C6D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B18C-3AC3-425A-AF9F-4966B7098B14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CA9-BFAC-40A7-96F6-188FBC1B51E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599920"/>
            <a:ext cx="64008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CASE DISCUSSION 3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AMILIA HAZREENA HAMIDO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FAMILY MEDICINE SPECIAL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MR. LEOW WOOI LEONG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PHARMAC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0DB-FF2A-4B42-A0A4-CDC48C4F833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600" y="1523880"/>
            <a:ext cx="740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asal saline irrigation facilitates mechanical removal of mucus &amp; infective agents. It also decreases crusting in the nasal cavity &amp; increases mucociliary clearance (MCC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lternative analgesic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SAIDs (e.g. diclofenac, sodium mefenamic ac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Nasal corticosteroids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e.g. Oxymetazoline nasal spr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histamine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o role of antihistamines UNLESS there is underlying allergic rhin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Associated symptoms suggestive of allergic rhinitis are sneezing, nasal itchiness, nasal obstruction &amp; rhinorrhoea (refer ARIA guidelin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biotics - N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E38-CEF4-4BB2-B0F1-0F99EBC9E6A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57360" y="131760"/>
            <a:ext cx="7738920" cy="65181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4405320" y="4649760"/>
            <a:ext cx="3868560" cy="20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Callout 2 (Accent Bar) 7"/>
          <p:cNvSpPr/>
          <p:nvPr/>
        </p:nvSpPr>
        <p:spPr>
          <a:xfrm>
            <a:off x="5330880" y="5184720"/>
            <a:ext cx="2151000" cy="870120"/>
          </a:xfr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5168880" y="5099040"/>
            <a:ext cx="1781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688-EDA4-4A81-A20C-19C73FA2173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014560" y="1657440"/>
            <a:ext cx="5673600" cy="4449600"/>
            <a:chOff x="2014560" y="1657440"/>
            <a:chExt cx="5673600" cy="4449600"/>
          </a:xfrm>
        </p:grpSpPr>
        <p:sp>
          <p:nvSpPr>
            <p:cNvPr id="364" name="AutoShape 3"/>
            <p:cNvSpPr/>
            <p:nvPr/>
          </p:nvSpPr>
          <p:spPr>
            <a:xfrm>
              <a:off x="2014560" y="1657440"/>
              <a:ext cx="566244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5" descr=""/>
            <p:cNvPicPr/>
            <p:nvPr/>
          </p:nvPicPr>
          <p:blipFill>
            <a:blip r:embed="rId1"/>
            <a:stretch/>
          </p:blipFill>
          <p:spPr>
            <a:xfrm>
              <a:off x="2014560" y="1657440"/>
              <a:ext cx="5673600" cy="444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1219320" y="2163600"/>
            <a:ext cx="7726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5FD0-06B8-4779-8DD2-D62F532E5B4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E:\Slide\p15.png"/>
          <p:cNvPicPr/>
          <p:nvPr/>
        </p:nvPicPr>
        <p:blipFill>
          <a:blip r:embed="rId1"/>
          <a:stretch/>
        </p:blipFill>
        <p:spPr>
          <a:xfrm>
            <a:off x="2001960" y="1447920"/>
            <a:ext cx="636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1" name="Content Placeholder 4" descr=""/>
          <p:cNvPicPr/>
          <p:nvPr/>
        </p:nvPicPr>
        <p:blipFill>
          <a:blip r:embed="rId1"/>
          <a:stretch/>
        </p:blipFill>
        <p:spPr>
          <a:xfrm>
            <a:off x="1743120" y="2205000"/>
            <a:ext cx="29224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C81-79D1-4099-9717-B6461ADA735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"/>
          <p:cNvGrpSpPr/>
          <p:nvPr/>
        </p:nvGrpSpPr>
        <p:grpSpPr>
          <a:xfrm>
            <a:off x="5562720" y="2205000"/>
            <a:ext cx="2604960" cy="2138400"/>
            <a:chOff x="5562720" y="2205000"/>
            <a:chExt cx="2604960" cy="2138400"/>
          </a:xfrm>
        </p:grpSpPr>
        <p:pic>
          <p:nvPicPr>
            <p:cNvPr id="374" name="Oval 6" descr=""/>
            <p:cNvPicPr/>
            <p:nvPr/>
          </p:nvPicPr>
          <p:blipFill>
            <a:blip r:embed="rId2"/>
            <a:stretch/>
          </p:blipFill>
          <p:spPr>
            <a:xfrm>
              <a:off x="5562720" y="2205000"/>
              <a:ext cx="2604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4"/>
            <p:cNvSpPr/>
            <p:nvPr/>
          </p:nvSpPr>
          <p:spPr>
            <a:xfrm>
              <a:off x="5994000" y="2545200"/>
              <a:ext cx="1738800" cy="14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Persistent symp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ill Sans MT"/>
                </a:rPr>
                <a:t>&gt; 4 days per week and &gt; 4 week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12"/>
          <p:cNvSpPr/>
          <p:nvPr/>
        </p:nvSpPr>
        <p:spPr>
          <a:xfrm>
            <a:off x="1617120" y="4952880"/>
            <a:ext cx="289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dail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work &amp;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 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4648320" y="49528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ODERATE-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Ab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Impairment of daily activities, sport, le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Problems caused at school 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98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Differential diagno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277-2CFB-4A20-B090-73BC01A62BD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304920" y="1635120"/>
            <a:ext cx="8610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 - </a:t>
            </a:r>
            <a:r>
              <a:rPr b="1" lang="en-MY" sz="3200" spc="-1" strike="noStrike">
                <a:solidFill>
                  <a:srgbClr val="000000"/>
                </a:solidFill>
                <a:latin typeface="Gill Sans MT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history provided suggests common cold which is vir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colour of the nasal discharge does not correlate with origin of infection, whether viral or bacteri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 has no role in the management of a common co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mmon cold is self-limit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4E72-BE93-4EE0-8B06-9D05D3106C8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– 2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lia comes back a week later with worsening symptom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ucopurulent nasal dischar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Fever,  temperature=38</a:t>
            </a:r>
            <a:r>
              <a:rPr b="0" lang="en-MY" sz="2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 addition to the headache, she now develops right-sided facial pain which is tender on tou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ain has increased in severity affecting her sleep &amp; stu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VAS score for symptoms of RS is now  7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ff0000"/>
                </a:solidFill>
                <a:latin typeface="Gill Sans MT"/>
              </a:rPr>
              <a:t>Q3. What is the diagnosis now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08E-17B9-4873-AC56-FAE4B04A4EA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, probably with superimposed bacterial infe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635-7636-4411-9EC5-6EE73D83516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4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How would you manage her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6DAE-4247-42C9-AEDB-7417E96BA02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6238800" y="2955960"/>
            <a:ext cx="2481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- 1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47560" y="1401480"/>
            <a:ext cx="739116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Cik Alia, a 23-year-old, final-year university stu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3 days h/o purulent nasal discharge, blocked nose, headache &amp; lethar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has been taking regular paracetamol for her headache, &amp; not on any other regular medic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is a non-smoker with no other significant medical history or drug allerg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exams start in 2 weeks’ time &amp; she feels a course of antibiotics will help to recover quick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lia appears tired &amp; shivery, &amp; is constantly blowing her nose. O/E, she has a temperature of 37.8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Visual Analogue Scale for symptoms of RS is 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algesic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corticosteroid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tranasal corticosteroids (e.g. Beclomethasone, Budesonide, Fluticasone propionate) significantly improves symptoms of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onsider prescribing to patients for a period of 2 - 3 wee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histamine - No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139-1156-4985-9704-40CEE39C2A8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an consider to prescribe antibio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ferred antibiotics = Amoxicillin 500 mg given TDS or Amoxicillin/Clavunalate 625 mg TDS for a period of 5 - 7 da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ay prescribe other classes of antibiotics if patient has history of penicillin allergy - no significant difference in efficacy between different antibiotics in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efuroxime, Doxycyc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caution: antibiotic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FB6-4B4A-425A-8813-22425C1A3F3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A50-2D9D-4CDA-8A36-B00AD0503C7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652760" y="1353960"/>
            <a:ext cx="6653160" cy="5204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631880" y="3051000"/>
            <a:ext cx="3137040" cy="3654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800600" y="4444920"/>
            <a:ext cx="3505320" cy="210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ase 1 – 3</a:t>
            </a:r>
            <a:r>
              <a:rPr b="1" lang="en-MY" sz="4300" spc="-1" strike="noStrike" baseline="30000">
                <a:solidFill>
                  <a:srgbClr val="572314"/>
                </a:solidFill>
                <a:latin typeface="Gill Sans MT"/>
              </a:rPr>
              <a:t>rd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Vis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Upon completion of antibiotics during her last visit, her facial pain &amp; headache improve significantly, but her nasal symptom persis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3 months later, Alia comes back with similar complaint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termittent nasal blockage &amp; nasal dischar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ltered state of sm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Q5. What is the diagnosis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02F9-41D2-47CF-902B-B7806CF311C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037360" y="3130560"/>
            <a:ext cx="10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046-E565-4872-AF9C-C513BF62F99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Outline your manag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1FC-8FDB-4401-8B2F-698157A56B7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nasal irrig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effective as an adjunct treatment for managing  symptoms of C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corticosteroi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hould be given for 16 - 52 wee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 (when necessar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Refer to ORL for further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C84-8DFF-4861-A57A-59FD8301D7C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4D0-8E4B-4CD7-8703-FAB6581D306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06720" y="1571760"/>
            <a:ext cx="58179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27FD-B0F6-49B9-BDF6-751DB632917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69231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C82-C361-4A2A-A0D0-DDD671D3164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1676520" y="866880"/>
            <a:ext cx="67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What is the diagnos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334-A017-4E83-A302-6F546C4EE91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6238800" y="3178080"/>
            <a:ext cx="2481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vs chronic rhinosinusitis should be differenti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a useful adjunct in managing both acute &amp; chronic rhino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Judicious use of antibiotic is important to prevent antibiotic resist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3EB-707F-4047-8BB9-2F58A25CA71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AD5-B9D9-45CC-BC5C-DF437D73A32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7124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diagnosis is likely to be either common cold or mild acute rhinosinusitis (AR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oth are likely to be viral in nature &amp; self-limit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B30-5DB7-4333-8DE9-E6E4E14656C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CB0-AE05-4F42-A0D6-789EE2BA17F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273320" y="138096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4A5-1F18-4ED1-A5EB-31A4EC617B6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1552680"/>
            <a:ext cx="68580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Visual Analogue Score/Scale (VAS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6E1-206A-4511-95D8-AB475ADE123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1752480" y="1690560"/>
            <a:ext cx="6635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93B-1B4B-4B92-B64F-268C2FFBCFB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DA6-94DD-4313-9B02-81800A534EC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1434960" y="1828800"/>
            <a:ext cx="417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9T00:08:42Z</dcterms:modified>
  <cp:revision>90</cp:revision>
  <dc:subject/>
  <dc:title>PowerPoint Presentation</dc:title>
</cp:coreProperties>
</file>