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DA4F-4148-48AB-A0A0-9016BF389E7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438-98FD-48EB-8407-21FB561DAA0D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roup of pharmacotherapy that is commonly administered is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vailable in the form of intranasal (INS) which has more local control in the nasal cavity &amp; also oral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rticosteroids especially INS corticosteroids are commonly used in RS. It reduces the inflammation &amp; oedema of the nasal mucous membrane rendering resolution of RS 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4578-C3EB-48D6-AD97-7F23732E3B8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B22-7AF5-4C5E-982C-3087ACE69A6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B39-A7D4-495D-9904-9183A2AF16A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local practice, oral steroids are not given due to the possibility of exacerbation of bacterial 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E82-BC99-473C-9C27-A44242768F9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6431-2782-4EE4-BEFA-AC4C7A61428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75BB-5ADA-4832-8DE7-4BFF23A5314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Many studies observed on the improvement of mucocliiary clearance as parameters to assess the use of deconges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t is known that the MCC is significantly slower in AB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9E49-B7F0-429B-AD39-954FFDE9448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A4B-E634-4264-A11F-700031ABC21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Viral RS is a self-limiting disease that is managed symptomatically with analgesic or antipyre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ims of pharmacotherapy are to alleviate/reduce severity of symptoms as well as to prevent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0CD4-AE7C-44BA-9EC3-8E8FFD227BA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00B-6812-42A1-B8CA-A6EEBDC197B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47FF-5492-4699-9919-636C79116AB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0D2-8D67-4A25-A920-AFC3936727E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re 4 main groups of the range of medications used in treating RS. Namely antibiotics, corticosteroids &amp; saline irrigations.  While anti-histamine is mainly used specifically in cases with underlying all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our CPG we have alo include in our discussion a smaller group of medications whereby the administration of which may be of beneficial for the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et us just go through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1EA-702E-433C-A0EC-A5885FCEABA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s in the treatment of ARS provide minimal to moderate bene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chrane meta-analysis: In 2009 – showed a reduced risk of treatment failure in antibiotics comparing to placebo by 34% within 7 to 1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 large prospective cohort study demonstrated reduced risk of treatment failure in patients treated with antibiotics vs without antibiotics (HR=0.3, 95% CI 0.21 to 0.4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Patients with poor orodental condition &amp; those with previous use of antibiotics in the past two months benefited most from this (HR of 0.04 &amp; 0.09 respectivel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9B1-C15E-4108-8FA1-E502E44A936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s have higher incidence of adverse events compared with placebo; gastrointestinal upsets being the most common (OR=2.10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5% CI 1.60 to 2.77; NNH=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, antibiotics overuse has been reported to have directly resulted in an increased prevalence of antimicrobial resistance in the reg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re are no available data for the Asian region, antimicrobial resistance due to overuse of antibiotics is an international health 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National Surveillance of Antibiotic Resistance (NSAR) Report by Ministry of Health, Malaysia, bo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ptococcus pneumonia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philus influenzae (two of the most common caus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gens of ARS) have shown an increase in antibiotic resistance from 2010 to 2014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 1 &amp;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B194-993B-49C3-9FB6-E17197CC4B4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gnificant difference in efficacy between different antibiotics in 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ational Antibiotics Guidelines Second Edition 2014, the preferred antibiotics are amoxicillin &amp; amoxicillin/clavulan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uration of antibiotic therapy should be as short as possible to reduce possible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-analysis showed that a shorter course of antibiotics (3 to 7 days) was as efficacious as a longer one (6 to 10 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596-0914-413E-AEC7-7AA5BDDBF5D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 in CRS, on the other hand has insufficient strong evidence to support its beneficial out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stematic review used only one small RCT with high risk of b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ome studies which report improvement in symptoms &amp; reduction in inflammatory markers using long-term macrolides such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ithromycin, clarithromycin &amp; erythromycin at low doses in C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ose studies are not placebo-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449-76B1-4F10-B789-DF8153A7B50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B49-FF90-4E3D-B12E-8F209039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E2D-664D-4595-82C9-8F5D21F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F76-F6B1-4C2D-AE33-96FD975B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32D-C6A9-4E4D-9CE1-91E1B1C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9A9-5611-445A-832E-357268E5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40E7-6D90-482E-8E63-4B91FA6F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C785-752C-4487-8CE4-915F3F0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DD1F-B158-4CB1-AAC3-27E6F2D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639-B5D2-47A4-BEF9-C2D6AC5A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E4DE-DF33-43CA-B727-A7203A9B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3D59-3043-4260-B28C-E82605A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A95-7F62-48D4-B670-C1E4BCDD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64CC-D562-49C5-8D5B-3BF0D79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DE73-32AC-484E-8A3D-1FDF86A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E6D3-41EB-4338-8EF8-534E6B4E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5702-1D63-4927-B53E-1CE2AEF5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9A13-1F32-492C-83F7-270EB9CD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C509-96E0-4B01-8DD8-59AEB621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86F8-AE76-4304-AD39-B8303E9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85D3-E0E5-4117-ACEC-718B59D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9DB0-AF99-4EF5-845C-6725320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DADC-D9A7-40D3-A81A-179728EC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285-BB03-4218-93AE-AC03B95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59E6-96A0-4300-9CC0-C34F176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F00F-1937-4AE0-B7CC-8340A04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86A8-9C00-4632-80E9-ADCBE59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5CC0-3D10-4BC1-BAFA-A6D23D9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4E67-E0AF-47E7-9B17-5EA504B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4437-2CDC-43C1-83CB-22537E08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CA9C-D430-4672-832E-BB0C7804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8889-222E-4ED1-B553-B3277FD0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FB1E-2F23-4D09-BEB6-2C63825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0511-A348-4AF2-A17D-C16DD97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78D-3274-4886-B4CF-99FB927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7718-3B59-4683-BA7F-46B401F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5E31-78FA-4CA4-9BEF-46D124E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4841-D69F-43A6-BCB5-C4E894C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3FA5-422F-43FC-9468-C6C32FF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F548-56E3-4F85-893E-F3519CC6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A4D5-3B48-448A-83C2-89BD59BB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B2BF-4EEC-4915-ADD8-DA0F285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566E-79DF-48EF-921C-9605908C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9242-9A5B-43C6-8CC5-73D01C8A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96FB-9651-46C7-848A-B94CED28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BB0-CB42-40D7-9E43-E6B6E38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0E31D-E522-4DE1-A68D-EB4BA0A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A0B1-AD9F-4D8A-9596-3009E6B8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351D-8744-4DB3-AE22-9E4336F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5FD94-0897-4873-8848-AA8116E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D1334-A4DC-4949-B250-F734FD9A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7EE7-8BA4-4E41-9777-48B785F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CB00-3F14-46B9-BF62-EDFEA35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8465-9569-4894-97D4-A1D9449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C008-1272-458E-A8D5-F5833BA5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41C6-DE86-41E0-9BFF-91409EB0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CB6-72D2-4C36-8AEB-95C5AD5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0D49-86C2-4FE1-923E-BCBD676B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05C19-9A79-483F-B3E8-73A6478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5171-0251-4F48-810D-338490C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A0EB-90EF-41BB-BF88-CDEAB9E2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0B2EE-ABCB-4379-96B9-FFF5230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FC85-7C39-48C8-9EFB-DFD9182B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DBE60-0F96-4D87-966F-DB414038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6EBA-B0D3-453F-9193-EAC2389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5C1F-E347-48C1-9E5A-890289C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1719-BC7B-493F-8A99-5142B08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67B-A9CF-4258-B324-2F8133F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529C-E27F-4E73-8BB3-6A090BAB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AC86-4147-4C67-81EC-9FD4FC8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8F883-D247-4A24-AB4C-3D3D5B43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B361-7BE3-49BB-B57B-1F4C6FA6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BE59C-C72F-41A7-9F78-7F30E1A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7497-7B5D-4E10-B6DC-39A39EB1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A7A5-C97C-4ACE-B59E-AAF57DC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0CA4-D99E-4DCA-A755-5026AB4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6A4D-071B-4778-95FB-03D3CC26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A1269-191F-4DAC-8D1B-1EDAE7A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7ED-C261-4C5E-A45B-DB47F17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E73A-30CE-4135-8A8B-A7D0E64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376A-B4B3-462E-A191-831E237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49490-4CC1-466C-A6FD-7B154B7B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30CF-11C2-476A-AECD-4F08B8D4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0BCE-7A8F-498C-95AD-0FCFAD84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C90-9222-4C48-B92D-EB81649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ADF-B6F2-4C9B-869C-AAA1C78C9183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C99-0705-4873-A890-DD17211D705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327-D5AE-42EF-B81A-1B9C982901E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9A26-7AD1-4223-963F-F05B1E6721E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B6EB-E05C-44D2-AFC7-E20A9063C8F9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345-7267-4192-B514-7A52A8F05CC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205-934A-4CCD-9CA2-211C1DEFC48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B305-7091-4E56-9DCC-B35FAC7B706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1F2F-0B62-4961-B713-FE1A57401D5B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C7E0-A1DD-48E0-8604-5DFDD8D59E7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3AF9-EB8B-46FC-A669-2CE9CEFC137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33E8-0E2C-45F8-A512-CF038702E91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BE7B-A28D-4111-BBF7-2FF1F1BF26E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B8A-2CFB-4609-BF60-3531C74C937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MEDICAL THERAPY</a:t>
            </a:r>
            <a:br>
              <a:rPr sz="36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2350-BA9F-4C7D-92B6-AD9904CF8DC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bio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8180-6F17-4487-90A5-14004C963A7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9320" y="2449440"/>
            <a:ext cx="7772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orticosteroi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(INS) &amp;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reduces the inflammation &amp; oedema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f the nasal mucous membrane rendering resolution of RS sympto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0F3-2AEE-427A-B162-89060810B57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2214720" cy="2361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038480" y="37242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1908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rticosteroid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84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mprove patency of  ostiomeatal complex by reduction in mucosal sw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munomodula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bilise mast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formation of inflammatory medi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hibit chemotaxis of inflammatory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rcRect l="16579" t="0" r="16757" b="0"/>
          <a:stretch/>
        </p:blipFill>
        <p:spPr>
          <a:xfrm>
            <a:off x="5218200" y="2117880"/>
            <a:ext cx="3494160" cy="35049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6EC-F418-4C5A-82EB-DCBF034DF0F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932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A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good meta-analyses showed that IN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significantly improved symptoms of ARS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compared with placebo i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14 - 21 days.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However, the effects were sma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igher doses of mometasone furoate led to better improvement of symptoms. The side effects were mild to moderate</a:t>
            </a:r>
            <a:r>
              <a:rPr b="0" lang="en-MY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MY" sz="1600" spc="-1" strike="noStrike" baseline="30000">
                <a:solidFill>
                  <a:srgbClr val="000000"/>
                </a:solidFill>
                <a:latin typeface="Gill Sans MT"/>
              </a:rPr>
              <a:t>34,  3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C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meta-analyses found that INS give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between 16 &amp; 52 weeks duration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wa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more efficacious 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than placeb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Reduction in polyp size with a mean difference of 0.43 (95% CI 0.25 to 0.61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6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Improvement of symptoms, SMD= - 0.37 (95% CI - 0.60 to - 0.13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No difference in side effect between the INS group &amp; placebo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owever, there was no difference in endoscopic score between the 2 groups (SMD= -0.37, 95% CI -0.84 to 0.11)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4.  Zalmanovici Trestioreanu A,  et al.  Cochrane Database Syst Rev. 2013;(12):CD0051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5.  Hayward G,  et al.  Ann Fam Med. 2012;10(3):241–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6.  Joe SA,  et al. Otolaryngol - Head Neck Surg. 2008;139(3):340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7.  Snidvongs K, et al.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Cochrane Database Syst Rev. 2011;(8):CD00927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C0C-2416-49B0-BB53-2B7F9DEA460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740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 adverse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irritation, mucosal bleeding &amp; cru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Lessen the adverse effects b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Propylene glycol contained in the prep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witching to a aqueous delivery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ncomitant nasal sal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pliance &amp; correct techniq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6477-015B-4F44-AAE1-93095E90FDB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Technique of INS administ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8D2-DFC0-47C8-BB95-1D9A677E42B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E:\Slide\p44.png"/>
          <p:cNvPicPr/>
          <p:nvPr/>
        </p:nvPicPr>
        <p:blipFill>
          <a:blip r:embed="rId1"/>
          <a:stretch/>
        </p:blipFill>
        <p:spPr>
          <a:xfrm>
            <a:off x="1663560" y="1371600"/>
            <a:ext cx="6870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A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59080" y="1599840"/>
            <a:ext cx="738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(30 mg/day for 7 days) i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significantl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in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mprovement of symptoms up to 12 day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ide effects of oral corticosteroids are limited &amp; mil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38, 3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ossibility of exacerbation of bacterial inf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8.  Venekamp RP, et al. Fam Pract. 2012;29(6):706–1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9.  Venekamp RP, et al. CMAJ 2012;184(14):E751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F8F-4B47-40E7-A28C-959549933AB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58720" y="1542600"/>
            <a:ext cx="7304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hort-term oral corticosteroids (25 mg/day for 2 weeks) is significantly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n reduction of nasal polyp size &amp; hyposmia score up to 10 week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causes transient suppression of adrenal function &amp; increase bone turnover. 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0.  Vaidyanathan S, et al. Ann Intern Med. 2011;154(5):293-30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A3E-42C6-425A-A233-C6E92A5A899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corticosteroid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DFB-E883-4A7D-BFEB-D8CC3C9B03F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143000" y="2560680"/>
            <a:ext cx="7848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8960" y="1523520"/>
            <a:ext cx="7715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acilitates mechanical remov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ective agent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lammatory media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reases cru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creases mucociliary clearance (MC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recommended to be used in A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76D4-CE08-4A1B-8969-D822028A899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Gill Sans MT"/>
              </a:rPr>
              <a:t>Learning 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differentiate between acute rhinosinusitis &amp; 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learn on medical treatments available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know the indications &amp; side effects for each medical treatment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A3A7-0008-446D-ACE9-7BAC4391CB1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23880"/>
            <a:ext cx="737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chrane systematic review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 was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efficacious as a </a:t>
            </a:r>
            <a:r>
              <a:rPr b="0" lang="en-MY" sz="2800" spc="-1" strike="noStrike" u="sng">
                <a:solidFill>
                  <a:srgbClr val="ff0000"/>
                </a:solidFill>
                <a:uFillTx/>
                <a:latin typeface="Gill Sans MT"/>
              </a:rPr>
              <a:t>treatment adjunct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or managing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the symptoms of CRS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(SMD=1.42, 95% CI 1.01 to 1.84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no difference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 the efficacy between isotonic &amp; hypertonic saline irrigation (p= 0.14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1. Harvey R, et al. Evidence-Based Child Heal A Cochrane Rev J 2008;3(3):459–95:CD00639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E1DC-C8AF-4013-931B-E76FA6CD8FF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60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vents are minor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bu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rri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use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923-0FC4-4DBA-9844-E4D78DAA8B6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saline irrig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5C5-628B-4D82-86B6-72877888207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19320" y="29638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an increase prevalence of allergic rhinitis (AR) in patients with CRS, although the role of allergy in the development of CRS remains uncle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ntihistamine controls sinusitis symptoms in 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urrent data yield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insufficient evidence to recommend antihistamine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for treatment of CRS in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n-allergic rhiniti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atient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, 23, 4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3. Desrosiers M, et al. J Otolaryngol - Head Neck Surg BioMed Central Ltd; 2011;40(SUPPL. 2):99–14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2. Braun JJ, et al. Allergy. 1997;52(6):650–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759-F446-4EC5-82A7-44E9C36E04B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hlorphenarimine, diphenhydram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econ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loratadine, terfenadine, 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ir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exofenadine, desloratadine, levo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newer generations are less sed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588-DAB9-4643-94FC-EB5F8911A7C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-histamin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C9B-58D5-4887-A066-C6A7A640E7E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219320" y="2771640"/>
            <a:ext cx="77724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ther med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insufficient recent evidence on the following treatment in rhinosinusit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viral ag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401-B7DB-4480-9ACC-589F65A4462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alges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rovide symptomatic relief in both viral &amp; bacterial infections of the upper respiratory passages in R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2BB3-1DCF-4F85-A00E-F1DFF87B983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600" y="17521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MCC improves significantly with oxymetazoline after 20 minute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opical or systemic decongestants may offer additional symptomatic relief in VRS, however their ability to prevent ABRS is unproven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In local context, decongestants is prescribed in AR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9. Rosenfeld RM, et al. Otolaryngol - Head Neck Surg (United States) 2015;152:S1–3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4. Inanli S,  et al. Laryngoscope. 2002;112(2):320–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05F-7D91-41D1-A44F-E5E5CD173DA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1071-E081-4935-8CFD-C2257919414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77724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 (ARS), viral or bacterial in origin, is usually treated medic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ral 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elf-limiting dise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ymptomatic relief - analgesic or antipyretic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773-8749-4282-9A43-ED4C21BEAC1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mucoly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to support the use of mucolytics in 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ly available mucolytic are bromhexine and guaifenesin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not proven to be effective in reducing symptoms of 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855C-2BFA-4739-AC9C-E9798B572B5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tiviral agent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600" y="18284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of antiviral agents used effectively in treating patients with RS.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87A-0A24-40DA-BE03-3ECBB05FCB8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Summary of treatment releva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55DD-C68B-4CFD-A4B4-00876B4F675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95280" y="1982880"/>
            <a:ext cx="75931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909-1C62-4A7A-8505-6E656E4CEB2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852560" y="1676520"/>
            <a:ext cx="6377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7BF5-22DE-4024-A7A5-3B345FB400C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058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OMPLEMENTARY &amp; ALTERNATIVE MEDICI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limited evidence of herbal medications use as adjunct treatment in 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cupuncture show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 significant improvement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in symptoms score, quality of life &amp; CT scan findings compared with conventional treatment in CR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0. Guo R, et al. Otolaryngol - Head Neck Surg. 2006;135(4):496–50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1. Rössberg E,  et al. Complement Ther Med. 2005;13(1):4–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67F-A6DC-4E2C-A9F3-B5BC99D4A8D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143000" y="4710240"/>
            <a:ext cx="78487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572314"/>
                </a:solidFill>
                <a:latin typeface="Gill Sans MT"/>
              </a:rPr>
              <a:t>Management of ARS for primary care &amp; non-ORL cent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D387-156B-4B9A-B2BD-80BF288C1AB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2914560" y="914400"/>
            <a:ext cx="409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52352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harmacotherapy is aimed to alleviate symptoms &amp; prevent complications in 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eware of antiobiotic resis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tal important to identify the correct diagnosis &amp; early sign of com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9090-45F7-4593-B0C8-641AA750CC1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A7F-7790-4ABB-BC61-3EA659BABAF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aims of pharmacotherap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alleviate symptom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prevent com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99A-7BB7-403C-85DA-461BB1D0AEB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500" spc="-1" strike="noStrike">
                <a:solidFill>
                  <a:srgbClr val="000000"/>
                </a:solidFill>
                <a:latin typeface="Gill Sans MT"/>
              </a:rPr>
              <a:t>Range of medications available: 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orticosteroid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saline irrig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-histamin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others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tiviral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36CB-9BB0-4B9F-8E46-564E2F5BCAD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600" y="1219320"/>
            <a:ext cx="740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Minimal to moderate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ochrane meta-analys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09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antibiotics comparing to placebo by 34% within 7 to 15 days (RR=0.66, 95% CI 0.44 to 0.98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12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favourable overall treatment effect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of antibiotics against placebo (OR=1.25, 95% CI 1.02 to 1.53; NNT=18)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 large prospective cohort study: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patients treated with antibiotics vs without antibiotics (HR=0.3, 95% CI 0.21 to 0.4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patients with poor orodental condition &amp; those with previous use of antibiotics in the past 2 months benefited most from this (HR of 0.04 &amp; 0.09 respectively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6.  Ahovuo-Saloranta A et al.  Cochrane Database Syst Rev. 2008; 2014;2:CD00024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7.  Lemiengre MB, et al.  Cochrane database Syst Rev 2012;10(10):CD0060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8.  Blin P et al. Br J Clin Pharmacol. 2010;70(3):418–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9EF-C795-4708-B734-7036A684A93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ffects - mostly gastrointestinal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microbial resistance due to overuse of antibiotic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3200" spc="-1" strike="noStrike">
                <a:solidFill>
                  <a:srgbClr val="000000"/>
                </a:solidFill>
                <a:latin typeface="Gill Sans MT"/>
              </a:rPr>
              <a:t>Streptococcus pneumoniae, Haemophilus influenza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9, 30, 3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. Fokkens WJ, et al. Rhinology. 2012 Mar;50(23):1-30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9. Ministry of Health M. National Surveillance of Antibiotic Resistance (NSAR). 20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0. Ministry of Health M. National Surveillance of Antibiotic Resistance (NSAR) Report. 201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1. Ministry of Health M. National Surveillance of Antibiotic Resistance (NSAR) Report. 20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2FF-3965-4877-808B-578B77A865D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re is no significant difference in efficacy between different antibiotics in ARS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referred antibiotics are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moxicillin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&amp;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 amoxicillin/clavulanate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 meta-analysis: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a shorter cour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antibiotics (3 to 7 days) was as efficacious as a longer one (6 to 10 days)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8. Falagas ME, et al. Br J Clin Pharmacol. 2009;67(2):161–71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160F-5613-4379-84B9-94BF22169AC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9984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sufficient strong evidence to support the routine use of antibiotics in C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acrolide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administered by ORL specialists in CRS for it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anti-inflammator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propert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0468-EF78-4540-A9BA-75DE67D6728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6T01:52:27Z</dcterms:modified>
  <cp:revision>63</cp:revision>
  <dc:subject/>
  <dc:title>PowerPoint Presentation</dc:title>
</cp:coreProperties>
</file>